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086-EEA0-4F60-BF16-2B9F82B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90F-3C83-4209-8A6D-7E73C341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BBA-F051-4CD1-8700-7B47B41C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60A5-8279-4D02-870F-424E839B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C73-C0CF-415B-BD62-BF9A8D6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DF1-2D49-4CAB-BDEE-C546869B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BF8-FC51-4BFA-917A-B5C2F03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161-1F1C-4225-82C9-3370199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41A-5D31-4EC9-A1CA-82DE14B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B27-0A8A-48EE-8F14-3E4B343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4942-EDCF-4235-B26E-796FF6D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28B-C0FA-403D-B555-F91FB26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86C5-F20B-4947-BACF-EC876DEB7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mous People Fri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Mundorf’s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51402" t="8520" r="7897" b="69114"/>
          <a:stretch/>
        </p:blipFill>
        <p:spPr>
          <a:xfrm>
            <a:off x="76320" y="152280"/>
            <a:ext cx="4314600" cy="312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rcRect l="5086" t="58525" r="0" b="6326"/>
          <a:stretch/>
        </p:blipFill>
        <p:spPr>
          <a:xfrm>
            <a:off x="181080" y="3809880"/>
            <a:ext cx="515304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rcRect l="6492" t="0" r="16319" b="63850"/>
          <a:stretch/>
        </p:blipFill>
        <p:spPr>
          <a:xfrm>
            <a:off x="4648320" y="995400"/>
            <a:ext cx="4190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New England colonies fam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4"/>
          <p:cNvSpPr/>
          <p:nvPr/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4"/>
          <p:cNvSpPr/>
          <p:nvPr/>
        </p:nvSpPr>
        <p:spPr>
          <a:xfrm>
            <a:off x="228600" y="3657600"/>
            <a:ext cx="87631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Middle Colonies fam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4"/>
          <p:cNvSpPr/>
          <p:nvPr/>
        </p:nvSpPr>
        <p:spPr>
          <a:xfrm>
            <a:off x="152280" y="51814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are the people of the Southern Colonies famou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400" y="2285640"/>
            <a:ext cx="4952880" cy="2590920"/>
          </a:xfrm>
          <a:prstGeom prst="rect">
            <a:avLst/>
          </a:prstGeom>
          <a:solidFill>
            <a:srgbClr val="ccecff">
              <a:alpha val="52000"/>
            </a:srgbClr>
          </a:solidFill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People of th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England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ddle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uther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Stu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5 and 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ps.ablongman.com/wps/media/objects/1483/1518969/DIVI085.jpg"/>
          <p:cNvPicPr/>
          <p:nvPr/>
        </p:nvPicPr>
        <p:blipFill>
          <a:blip r:embed="rId2"/>
          <a:stretch/>
        </p:blipFill>
        <p:spPr>
          <a:xfrm>
            <a:off x="1371600" y="0"/>
            <a:ext cx="6248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teen Colon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____ and _________of the thirteen colonies affected how _______ __________ and 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________ had poor _____ and a ______ climate, but plenty of _______ and 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 Colonies had ______ soil, a warmer ______, and ______ for ___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________ Colonies had an even warmer climate and many _________ in the _________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48598" t="2129" r="6492" b="30760"/>
          <a:stretch/>
        </p:blipFill>
        <p:spPr>
          <a:xfrm>
            <a:off x="533520" y="1219320"/>
            <a:ext cx="281916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72880"/>
            <a:ext cx="327672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ople of the New England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new england.gif"/>
          <p:cNvPicPr/>
          <p:nvPr/>
        </p:nvPicPr>
        <p:blipFill>
          <a:blip r:embed="rId1"/>
          <a:srcRect l="8063" t="40015" r="45163" b="7348"/>
          <a:stretch/>
        </p:blipFill>
        <p:spPr>
          <a:xfrm>
            <a:off x="380880" y="2185920"/>
            <a:ext cx="3048120" cy="451980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6"/>
          <p:cNvSpPr/>
          <p:nvPr/>
        </p:nvSpPr>
        <p:spPr>
          <a:xfrm>
            <a:off x="3429000" y="24300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 religion shaped the ___________ of the Massachusetts ________ Col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_________ thought that Puritan _______ should not tell them what to _____ or how to 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itans and American _________ fought over _____ in New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England colonists made a living by using _________ from the _______ and the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England colonists had to work _____ for things they ________ for everyday 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7897" t="33025" r="20529" b="47806"/>
          <a:stretch/>
        </p:blipFill>
        <p:spPr>
          <a:xfrm>
            <a:off x="914400" y="304920"/>
            <a:ext cx="69087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rcRect l="0" t="0" r="0" b="52134"/>
          <a:stretch/>
        </p:blipFill>
        <p:spPr>
          <a:xfrm>
            <a:off x="2057400" y="3052800"/>
            <a:ext cx="57913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eople of the Middle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5" descr="middle.gif"/>
          <p:cNvPicPr/>
          <p:nvPr/>
        </p:nvPicPr>
        <p:blipFill>
          <a:blip r:embed="rId1"/>
          <a:srcRect l="4615" t="48717" r="40501" b="0"/>
          <a:stretch/>
        </p:blipFill>
        <p:spPr>
          <a:xfrm>
            <a:off x="-27000" y="1905120"/>
            <a:ext cx="383688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Content Placeholder 6"/>
          <p:cNvSpPr/>
          <p:nvPr/>
        </p:nvSpPr>
        <p:spPr>
          <a:xfrm>
            <a:off x="3657600" y="14400"/>
            <a:ext cx="54864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lish settlement began in _____, when England captured the ______ colony of New 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lonies of ________and New ________ belonged to English ___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lliam ____ founded Pennsylvania as a place where people could _________ freel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from many _________ and __________ lived in the Middle Coloni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people in the Middle Colonies ______ to earn a living, but ______ were important centers of 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rcRect l="0" t="0" r="0" b="61656"/>
          <a:stretch/>
        </p:blipFill>
        <p:spPr>
          <a:xfrm>
            <a:off x="-130320" y="838080"/>
            <a:ext cx="9350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3657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People of the Southern Colo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6" descr="southern.gif"/>
          <p:cNvPicPr/>
          <p:nvPr/>
        </p:nvPicPr>
        <p:blipFill>
          <a:blip r:embed="rId1"/>
          <a:srcRect l="6332" t="50015" r="40501" b="5722"/>
          <a:stretch/>
        </p:blipFill>
        <p:spPr>
          <a:xfrm>
            <a:off x="76320" y="1981080"/>
            <a:ext cx="382104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Content Placeholder 6"/>
          <p:cNvSpPr/>
          <p:nvPr/>
        </p:nvSpPr>
        <p:spPr>
          <a:xfrm>
            <a:off x="3809880" y="152280"/>
            <a:ext cx="5639040" cy="59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_________ was the largest and ________ English colony and had the first elected ____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_______ founded ______ more  colonies in the _______ during the 1600s and early 1700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______ grew very ____ in the Southern Colonie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uthern _______ were large  and needed many _______, but  most southern colonists lived on ______ family 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lavery was ______, but enslaved people developed a _______ that helped them _________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8:30:37Z</dcterms:created>
  <dc:creator>CCPS</dc:creator>
  <dc:description/>
  <dc:language>en-US</dc:language>
  <cp:lastModifiedBy>CCPS</cp:lastModifiedBy>
  <dcterms:modified xsi:type="dcterms:W3CDTF">2008-12-05T12:41:37Z</dcterms:modified>
  <cp:revision>40</cp:revision>
  <dc:subject/>
  <dc:title>Famous People Friday</dc:title>
</cp:coreProperties>
</file>